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3904-1FEF-435D-8051-8FA712DE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C8A1-6FC1-4CB6-B0C0-8B29F095F1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s are gen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omen, pathways tend to b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experience more “off-ramp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ly, detours are longer for women, despite ideal worker/normative professional su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model help explain why women feel less valued and less of a full academic 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perceived as less integrated into the department and i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348-1642-47A7-8557-6ED437E9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1FD-27E0-4AC9-8DCB-C661DC1A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751-0EC5-4A76-9583-468E05F9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DE4-03C7-4688-8B92-F6E38E0D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925E-74FA-444A-8A26-040F14B4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685B-88C1-47DE-9C7F-B1B51008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7CD7-4B0A-4AFC-B56A-A55A4A1B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6A3D-CDA1-454F-AC52-1BCE59E4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F174-EA59-402E-970A-24BFE64B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0589-4631-48E6-901A-34863F94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0DCA-0B91-4C9B-85C5-0BF6180A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261-EB25-4600-9958-EA8543E8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5F21-2306-4B39-9948-16163711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65F2-DB38-4E97-86D3-3CFAC31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E147-2C83-4645-811E-41E0525F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FABA-C036-4161-97C7-C3894BE5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7047-A290-4882-8E95-317C0F1E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B057-2BB6-4D24-AE2C-D0BC9622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4B10-F6D2-46EF-815A-33AA914F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2E1A-7B01-42AF-94D5-D0146217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F566-CCE0-43F8-A476-07112920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BF1D-416F-4095-8EE2-3F450C47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4BD-0832-44FD-A521-2C64A908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4444-6414-4900-A3D8-1F535659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5CBF-B511-4D53-856F-A2C7BBB7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28CA-076E-4899-BB8E-17054A7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43CAC-A4CC-42B2-88C6-E706636B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69DF2-D3B5-4A64-94EF-7D88B613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601F-6A11-437C-8F43-57654981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62C2-BF13-4915-BE9D-CD170375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67AE2-17FA-48BA-99E6-7AF2C4DE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4C9A9-969D-40C8-9A20-0DDBCDB4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1D6EE-1DF4-48DB-86B2-36E8144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B7E-1518-4619-9908-911C0AA9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2CF3-0571-4656-BA7C-E0CE0C31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78DF-2F9A-4E9A-9572-4A41C937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41E7-A782-46B3-86EC-D83586C6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648B-C155-4F44-A11C-7BEAC001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2C0B-BEA4-4AF2-A780-98F59E4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4AC7-0206-4878-A566-7739F3F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9641-A679-4942-B4E1-16BA6CA5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696F-BAB9-4646-BB54-61BC6699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D39AE-163F-42A5-8A89-1F2B0883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4060-16CB-4F7B-9D1A-BFC11401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746-B81F-4C1B-9782-6932903C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A6B0-F3F3-4543-B24D-35768F04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D46A-71C6-414C-8D68-7019678A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8E287-A6A3-4417-88CE-5121BCEF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20BC7-C652-4AC7-B445-551778EA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D2C91-3856-496C-ADC4-BC2D6B6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27F26-9108-42A7-BA9A-A8D41908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A1F7C-132F-4D2A-BAE2-FD4D54DA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B865D-EABE-46C8-B8EC-98C41E12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CBB70-15D2-477C-87A3-4F3B8068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93E4A-A096-4C71-908E-AF2A76F9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85A-2226-46BF-8A84-38C5B7FC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7E6F5-5A84-4394-B2AF-15BE740C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61744-71B3-4BF0-B0B9-3D12EB16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98B0-44BE-405D-A55F-9009ECC0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1E4C4-AFDE-4761-8F80-DA7BA9A6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C9475-614B-402A-A711-73F7C238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C050-C3B2-4152-9FA3-01D4E6BA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50806-0191-431B-BCEA-0B2D2C08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72E6-9181-46F1-8D23-F87265B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8369B-5291-4C01-8CBA-93AE7FFB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E332-8312-4D3A-859A-D7DCF4C9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6AF-4545-473E-8A3F-028F8754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63217-89BD-4904-AC21-B00D2178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AF22-1F3C-4495-9B57-F11D3536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338A6-0308-43ED-89B9-5712FBEE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06E17-152D-4D88-83EC-24136093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BB063-F604-4EE4-96BD-46BF53B7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B5305-B281-4845-9784-CD791EFC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A9725-82CB-4C30-938A-7F3B503F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3AFBC-FD45-4AB2-8E6E-171248CA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10A69-CC61-447F-AAAF-FC7EE88D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26187-280A-4E90-9537-3E87FC74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594-82C2-4BCD-86D9-DC74984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CDC2A-F421-406C-A6D6-2D5F7BE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D102D-CC15-4678-97FB-2BA72EAD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ED9BF-3871-4CCF-A81B-3D8A950B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D4F75-B5CF-4B80-B890-F65D1EF8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449C3-FF1A-4725-A18F-BD08EFA0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61D-627B-4B44-A3D1-12F8E775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9BF7-41A6-4525-8823-7C20DA38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B68B-4FF5-414A-AD4A-08421CB88F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A8F3-59CE-4AA4-B7F2-C6708A4D2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DF46-65F7-4C1E-A7DC-257BD81A85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FEC8-1912-4021-A986-DFBC7E85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E1C9-7FE3-4A1E-A104-D36A83FFFAC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1363-A416-41FF-B7AF-D105D02515F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5c9c"/>
                </a:solidFill>
                <a:latin typeface="Century Gothic"/>
              </a:rPr>
              <a:t>Recruiting, Promoting &amp; Retaining The Best Faculty:</a:t>
            </a:r>
            <a:br>
              <a:rPr sz="3800"/>
            </a:br>
            <a:r>
              <a:rPr b="0" lang="en-US" sz="3800" spc="-1" strike="noStrike">
                <a:solidFill>
                  <a:srgbClr val="ff5c9c"/>
                </a:solidFill>
                <a:latin typeface="Century Gothic"/>
              </a:rPr>
              <a:t>The Role of Work/Family Policies</a:t>
            </a: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isa Wolf-Wend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niversity of Kans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uffer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occupation with tim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second shift is alive and we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dividual agenc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partments determine cultu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olicies are important, but underutiliz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44792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Most were successful and thriving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More flexibility, less work stress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Easier to prioritize their interests at work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Parental concerns shif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hanging diapers to arranging car pools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cheduling is a major issue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Not wanting to deal with politics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Hesitant to go up for promotion and move into administration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70000"/>
              </a:lnSpc>
              <a:spcBef>
                <a:spcPts val="675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urnou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ress of pre-tenure stage still sting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ed for self ca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ntoring and suppor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rve as mentors for oth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elped to create institutional polici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on’t receive mentoring or suppor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Family Friendly Policie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ual Career couple hir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ay care – affordable and accessib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nure clock stop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amily leave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dified duty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lexibility in ten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fessional development (throughout career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ntoring (throughout career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5c9c"/>
                </a:solidFill>
                <a:latin typeface="Century Gothic"/>
              </a:rPr>
              <a:t>Dilemmas: Tenure and Biological clock can they coexist</a:t>
            </a: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“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deal Worker/Ideal Scientist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36" name="Group 20"/>
          <p:cNvGrpSpPr/>
          <p:nvPr/>
        </p:nvGrpSpPr>
        <p:grpSpPr>
          <a:xfrm>
            <a:off x="838080" y="2209680"/>
            <a:ext cx="6693120" cy="484200"/>
            <a:chOff x="838080" y="2209680"/>
            <a:chExt cx="6693120" cy="484200"/>
          </a:xfrm>
        </p:grpSpPr>
        <p:sp>
          <p:nvSpPr>
            <p:cNvPr id="337" name="Right Arrow 3"/>
            <p:cNvSpPr/>
            <p:nvPr/>
          </p:nvSpPr>
          <p:spPr>
            <a:xfrm>
              <a:off x="83808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ight Arrow 5"/>
            <p:cNvSpPr/>
            <p:nvPr/>
          </p:nvSpPr>
          <p:spPr>
            <a:xfrm>
              <a:off x="198108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ight Arrow 7"/>
            <p:cNvSpPr/>
            <p:nvPr/>
          </p:nvSpPr>
          <p:spPr>
            <a:xfrm>
              <a:off x="312408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ight Arrow 8"/>
            <p:cNvSpPr/>
            <p:nvPr/>
          </p:nvSpPr>
          <p:spPr>
            <a:xfrm>
              <a:off x="426708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ight Arrow 9"/>
            <p:cNvSpPr/>
            <p:nvPr/>
          </p:nvSpPr>
          <p:spPr>
            <a:xfrm>
              <a:off x="541044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ight Arrow 10"/>
            <p:cNvSpPr/>
            <p:nvPr/>
          </p:nvSpPr>
          <p:spPr>
            <a:xfrm>
              <a:off x="6553440" y="2209680"/>
              <a:ext cx="977760" cy="48420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21"/>
          <p:cNvGrpSpPr/>
          <p:nvPr/>
        </p:nvGrpSpPr>
        <p:grpSpPr>
          <a:xfrm>
            <a:off x="838080" y="4038480"/>
            <a:ext cx="6693120" cy="1203840"/>
            <a:chOff x="838080" y="4038480"/>
            <a:chExt cx="6693120" cy="1203840"/>
          </a:xfrm>
        </p:grpSpPr>
        <p:sp>
          <p:nvSpPr>
            <p:cNvPr id="344" name="Right Arrow 11"/>
            <p:cNvSpPr/>
            <p:nvPr/>
          </p:nvSpPr>
          <p:spPr>
            <a:xfrm>
              <a:off x="838080" y="4038480"/>
              <a:ext cx="977760" cy="484200"/>
            </a:xfrm>
            <a:prstGeom prst="rightArrow">
              <a:avLst>
                <a:gd name="adj1" fmla="val 50000"/>
                <a:gd name="adj2" fmla="val 5000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Down Arrow 12"/>
            <p:cNvSpPr/>
            <p:nvPr/>
          </p:nvSpPr>
          <p:spPr>
            <a:xfrm rot="18796800">
              <a:off x="2063520" y="4241160"/>
              <a:ext cx="485640" cy="977760"/>
            </a:xfrm>
            <a:prstGeom prst="downArrow">
              <a:avLst>
                <a:gd name="adj1" fmla="val 50000"/>
                <a:gd name="adj2" fmla="val 5002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Down Arrow 13"/>
            <p:cNvSpPr/>
            <p:nvPr/>
          </p:nvSpPr>
          <p:spPr>
            <a:xfrm rot="12730800">
              <a:off x="2966400" y="4167720"/>
              <a:ext cx="484200" cy="978120"/>
            </a:xfrm>
            <a:prstGeom prst="downArrow">
              <a:avLst>
                <a:gd name="adj1" fmla="val 50000"/>
                <a:gd name="adj2" fmla="val 4999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ight Arrow 14"/>
            <p:cNvSpPr/>
            <p:nvPr/>
          </p:nvSpPr>
          <p:spPr>
            <a:xfrm>
              <a:off x="3657600" y="4114440"/>
              <a:ext cx="977760" cy="484200"/>
            </a:xfrm>
            <a:prstGeom prst="rightArrow">
              <a:avLst>
                <a:gd name="adj1" fmla="val 50000"/>
                <a:gd name="adj2" fmla="val 5000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Down Arrow 15"/>
            <p:cNvSpPr/>
            <p:nvPr/>
          </p:nvSpPr>
          <p:spPr>
            <a:xfrm rot="18826800">
              <a:off x="4926960" y="4139280"/>
              <a:ext cx="484200" cy="977760"/>
            </a:xfrm>
            <a:prstGeom prst="downArrow">
              <a:avLst>
                <a:gd name="adj1" fmla="val 50000"/>
                <a:gd name="adj2" fmla="val 5000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Down Arrow 18"/>
            <p:cNvSpPr/>
            <p:nvPr/>
          </p:nvSpPr>
          <p:spPr>
            <a:xfrm rot="13128600">
              <a:off x="5814720" y="4158360"/>
              <a:ext cx="484200" cy="978120"/>
            </a:xfrm>
            <a:prstGeom prst="downArrow">
              <a:avLst>
                <a:gd name="adj1" fmla="val 50000"/>
                <a:gd name="adj2" fmla="val 4999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ight Arrow 19"/>
            <p:cNvSpPr/>
            <p:nvPr/>
          </p:nvSpPr>
          <p:spPr>
            <a:xfrm>
              <a:off x="6553440" y="4114440"/>
              <a:ext cx="977760" cy="484200"/>
            </a:xfrm>
            <a:prstGeom prst="rightArrow">
              <a:avLst>
                <a:gd name="adj1" fmla="val 50000"/>
                <a:gd name="adj2" fmla="val 50006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Box 28"/>
          <p:cNvSpPr/>
          <p:nvPr/>
        </p:nvSpPr>
        <p:spPr>
          <a:xfrm>
            <a:off x="7620120" y="419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52352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MLA is not enough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ot an entitleme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ot just a woman’s “problem”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ot just for junior facul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stitutional versus individual perspectiv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sults at different institutional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sciplinary differe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der differe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Questions? contact Lisa Wolf-Wendel  lwolf@ku.ed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utoShape 2" descr=""/>
          <p:cNvPicPr/>
          <p:nvPr/>
        </p:nvPicPr>
        <p:blipFill>
          <a:blip r:embed="rId1"/>
          <a:stretch/>
        </p:blipFill>
        <p:spPr>
          <a:xfrm>
            <a:off x="755640" y="530280"/>
            <a:ext cx="7937640" cy="1152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9810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ablish why universities should care about work/family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cruitment – focus on Dual Career Couple Polici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motion &amp; Retention – focus on needs of academics with childre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uture of work/family Poli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ontex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gher Education is in flu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cademics (future academics) lives are complica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itutions of Higher Education are not altruisti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AutoShap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recruit, promote and retain best facul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address concerns about representatio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raise morale and increase productiv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create more equitable work pla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ssure from external 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ecruitment: The case for Dual Career Couple Hiring Policie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ypes of “help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d hoc, decentraliz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location assistanc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sort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hared posi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reation of non-tenure track posi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reation of tenure track posi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When Dual Career Hiring Work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rendip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itial hire is really wan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ality of second hi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t of second hire/needs of un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lture and Receptivity of hiring departm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llingness/needs of second hi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vailability of resour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Tenure, Promotion &amp; Retention (other work family policies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In Academia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 work and family has been an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either or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 proposition (especially for women)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ould wait to have children…. 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ould opt not to pursue an academic career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ould opt for a less prestigious position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How do faculty manage work and family?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Academic motherhood study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alitative stud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terviews with 120 wom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ariety of institutional typ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ll with young children, all tenure tra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ariety of field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terviewed early career (less than five years) and mid career (5-7 years late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viewed institutional polici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44792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joy of professional and personal r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cademic work is flexible, but unend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ving a child makes you effici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uts things into perspec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40:56Z</dcterms:created>
  <dc:creator>Lisa Wolf-Wendel</dc:creator>
  <dc:description/>
  <dc:language>en-US</dc:language>
  <cp:lastModifiedBy>jil336</cp:lastModifiedBy>
  <dcterms:modified xsi:type="dcterms:W3CDTF">2010-05-06T21:19:26Z</dcterms:modified>
  <cp:revision>41</cp:revision>
  <dc:subject/>
  <dc:title>Work and Family on the Tenure Track</dc:title>
</cp:coreProperties>
</file>