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BE15-2ED0-420A-B1E3-3B71622F3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2AA2-EB3E-4441-BBCB-4DF473B6DB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s are gend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omen, pathways tend to be l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experience more “off-ramp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mulatively, detours are longer for women, despite ideal worker/normative professional su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nd model help explain why women feel less valued and less of a full academic particip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perceived as less integrated into the department and instit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209-B24E-4CFE-8A28-B7072EF9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A12D-1E3E-4768-8F98-4C332778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5A35-AE4F-4791-9759-23C488D6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2B50-1BD1-4E1C-A6AA-9A952E83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3155-9D37-4E45-AAC3-AFBFB91C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1067-E2F9-4AFD-82A3-67948D92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B880-B974-45C3-94B6-0DED7978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5AD2-2FC8-474B-8D48-D54CA191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04FE-C684-416F-9B5E-79E1CC30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D8E0-0EB7-4710-A114-91DDA070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D3B5-0990-4875-BA1E-F805F486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F73-2E7A-44C6-914D-740C46E3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C4BD-1B83-4C8F-A6A7-F45699CD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FAEF-F092-4D7B-8192-AEF3FF72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AD01-D6B2-461B-B490-84E4A8A1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9576-0309-4A88-AF7F-C6458C78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A7F3-0CFD-4FB3-B664-8A7BA5FE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C369A-2D65-4DC2-B28D-B02322BC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95EA8-C6BD-47C6-B644-46DC82ED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4ED31-BCEE-412C-BFAA-9E145597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A81E6-B4DC-4518-9A38-54862732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802AE-2F65-4AAA-A55B-3BFBC9A7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13D-8912-42FF-9BEF-EEE14E16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B3F8F-B8B5-47FA-8CF8-570C19A3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723CC-3751-4B55-B63B-336C7E8C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95DDA-C256-40A3-8DA7-30D4872D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07320-6C51-445D-91EA-B77FA282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9614C-BCD8-4FF6-A40D-55F100F5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94471-713D-46F1-878A-9F90B405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260C7-167A-4965-AF42-5DB8DEFF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64CCB-1B9D-4B85-810E-5FD8B3CA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B94D1-C927-4C5B-8F5F-844B6F1C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8BF71-8C45-45EF-B734-9309CF8A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138F-3733-43AC-BD03-CEF9DF83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39E5A-21A1-4242-85C9-7DE04131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60640-CAF7-493F-9731-E8F8350C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AB7DA-0D0C-477F-937E-C1E808EA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2063B-6DF4-463E-BFE2-7F354225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08250-BD0D-4A33-AA36-137F2BCB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D5D65-8773-4C15-A5B6-574842BA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BDAE3-5009-4464-9D4D-0CCD860B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65699-1FED-4A6C-A872-E1457DFE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AC93C-D00D-4DAB-B203-B1A76EB9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EDE3F-B2BC-4353-BB24-5BC7D1FD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1CD5-FB71-4615-82CC-07A31205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B525C-4C5F-4F8B-BD8F-4EE53201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8B263-47A0-462C-8D0D-6F716940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FE5BB-DAE1-42C4-81DB-3C4A871F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3D086-8F79-457A-AB7F-D614D765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D636C-25AF-4951-965C-7341ACFC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35804-E559-4507-B798-915B88D6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30995-EA35-4CB5-A45B-E0B76B83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C4082-B716-439A-AD7D-EC58B20D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D46D6-C96F-419B-ADA8-9A5DD1DA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7AC36-A777-481B-8446-EE918AFE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24B1-0BCC-4AD1-BE12-3ECD284F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2B74D-6A47-4C94-B2B4-534D3F3E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7E07B-8040-4FD3-8AC2-51294128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C0177-A9AE-4B4A-8399-B7E53AE9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D8A9D-450C-4F74-889B-828223C4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A3377-D1CF-40FB-9D49-F7105FEA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1FB89-64D7-4A3B-8972-4A001903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0C048-8181-40B4-B5FA-636E5737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8C7D5-C777-462B-A279-4B3A6C63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7FFEA-3358-4F51-B993-D175B02F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4FA01-1983-4C9D-90F8-7014476B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F1B-387A-4600-91C2-29E68C42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06EBD-84FA-4430-A417-4CF58A11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6FB44-DD07-4BA8-BAB4-2CFC1E6E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62A04-A51C-40B0-BD22-8B50FD32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1598F-7B42-4232-AC0D-995B1A95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CB13A-34D5-4E09-BE8F-0F8E98A6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BFC8C-29E4-47FA-807F-924C5239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FDC0C-2798-4C2D-A2F3-34C91B4F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B5164-C421-46EE-91B1-82297F4E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453F8-D150-4CD7-9C74-F5C76CC5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B9754-17C3-406F-8754-A215ABE2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6898-FE31-43A7-B564-EDB2B53B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61309-801E-46E1-9032-BC0EA617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79112-1C99-4FF8-A3C3-DD91A329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6859B-DCFA-4992-B53D-9A4B23E7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C2EAB-4CA4-4ED9-9B4A-1B977CC9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E1CE2-BFED-4D15-8E43-FE4BB778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96B1-F8FE-406C-A5BB-1B838205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8501-BA78-49EB-9F8D-77F5F652A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93E3-E651-4331-A119-2D9C8AD6BB9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BC59-C05E-4433-B7A4-1A4D9144B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6182-173A-4C4B-8D7E-28361B9E06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ACF4-6434-4F26-87FA-E4E9E013D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05DE-83C4-43F4-A4BE-3574133E9EF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6E65-1F3C-4293-BE7D-F64636F54EF5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5c9c"/>
                </a:solidFill>
                <a:latin typeface="Century Gothic"/>
              </a:rPr>
              <a:t>Recruiting, Promoting &amp; Retaining The Best Faculty:</a:t>
            </a:r>
            <a:br>
              <a:rPr sz="3800"/>
            </a:br>
            <a:r>
              <a:rPr b="0" lang="en-US" sz="3800" spc="-1" strike="noStrike">
                <a:solidFill>
                  <a:srgbClr val="ff5c9c"/>
                </a:solidFill>
                <a:latin typeface="Century Gothic"/>
              </a:rPr>
              <a:t>The Role of Work/Family Policies</a:t>
            </a:r>
            <a:endParaRPr b="0" lang="en-US" sz="38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isa Wolf-Wend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niversity of Kansa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AutoShap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Buffering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occupation with tim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second shift is alive and wel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dividual agenc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partments determine cultur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olicies are important, but underutiliz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AutoShap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44792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Most were successful and thriving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More flexibility, less work stress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70000"/>
              </a:lnSpc>
              <a:spcBef>
                <a:spcPts val="67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Easier to prioritize their interests at work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Parental concerns shif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70000"/>
              </a:lnSpc>
              <a:spcBef>
                <a:spcPts val="67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hanging diapers to arranging car pools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70000"/>
              </a:lnSpc>
              <a:spcBef>
                <a:spcPts val="67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cheduling is a major issue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Not wanting to deal with politics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70000"/>
              </a:lnSpc>
              <a:spcBef>
                <a:spcPts val="67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Hesitant to go up for promotion and move into administration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70000"/>
              </a:lnSpc>
              <a:spcBef>
                <a:spcPts val="67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70000"/>
              </a:lnSpc>
              <a:spcBef>
                <a:spcPts val="67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AutoShap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urnou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tress of pre-tenure stage still sting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eed for self car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entoring and suppor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rve as mentors for othe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elped to create institutional polici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on’t receive mentoring or suppor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Family Friendly Policies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ual Career couple hir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ay care – affordable and accessib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enure clock stop polic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amily leave polic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odified duty polic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lexibility in tenu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ofessional development (throughout career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entoring (throughout career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5c9c"/>
                </a:solidFill>
                <a:latin typeface="Century Gothic"/>
              </a:rPr>
              <a:t>Dilemmas: Tenure and Biological clock can they coexist</a:t>
            </a:r>
            <a:endParaRPr b="0" lang="en-US" sz="38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      “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deal Worker/Ideal Scientist”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36" name="Group 20"/>
          <p:cNvGrpSpPr/>
          <p:nvPr/>
        </p:nvGrpSpPr>
        <p:grpSpPr>
          <a:xfrm>
            <a:off x="838080" y="2209680"/>
            <a:ext cx="6693120" cy="484200"/>
            <a:chOff x="838080" y="2209680"/>
            <a:chExt cx="6693120" cy="484200"/>
          </a:xfrm>
        </p:grpSpPr>
        <p:sp>
          <p:nvSpPr>
            <p:cNvPr id="337" name="Right Arrow 3"/>
            <p:cNvSpPr/>
            <p:nvPr/>
          </p:nvSpPr>
          <p:spPr>
            <a:xfrm>
              <a:off x="838080" y="2209680"/>
              <a:ext cx="977760" cy="484200"/>
            </a:xfrm>
            <a:prstGeom prst="rightArrow">
              <a:avLst>
                <a:gd name="adj1" fmla="val 50000"/>
                <a:gd name="adj2" fmla="val 50035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ight Arrow 5"/>
            <p:cNvSpPr/>
            <p:nvPr/>
          </p:nvSpPr>
          <p:spPr>
            <a:xfrm>
              <a:off x="1981080" y="2209680"/>
              <a:ext cx="977760" cy="484200"/>
            </a:xfrm>
            <a:prstGeom prst="rightArrow">
              <a:avLst>
                <a:gd name="adj1" fmla="val 50000"/>
                <a:gd name="adj2" fmla="val 50035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ight Arrow 7"/>
            <p:cNvSpPr/>
            <p:nvPr/>
          </p:nvSpPr>
          <p:spPr>
            <a:xfrm>
              <a:off x="3124080" y="2209680"/>
              <a:ext cx="977760" cy="484200"/>
            </a:xfrm>
            <a:prstGeom prst="rightArrow">
              <a:avLst>
                <a:gd name="adj1" fmla="val 50000"/>
                <a:gd name="adj2" fmla="val 50035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ight Arrow 8"/>
            <p:cNvSpPr/>
            <p:nvPr/>
          </p:nvSpPr>
          <p:spPr>
            <a:xfrm>
              <a:off x="4267080" y="2209680"/>
              <a:ext cx="977760" cy="484200"/>
            </a:xfrm>
            <a:prstGeom prst="rightArrow">
              <a:avLst>
                <a:gd name="adj1" fmla="val 50000"/>
                <a:gd name="adj2" fmla="val 50035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ight Arrow 9"/>
            <p:cNvSpPr/>
            <p:nvPr/>
          </p:nvSpPr>
          <p:spPr>
            <a:xfrm>
              <a:off x="5410440" y="2209680"/>
              <a:ext cx="977760" cy="484200"/>
            </a:xfrm>
            <a:prstGeom prst="rightArrow">
              <a:avLst>
                <a:gd name="adj1" fmla="val 50000"/>
                <a:gd name="adj2" fmla="val 50035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ight Arrow 10"/>
            <p:cNvSpPr/>
            <p:nvPr/>
          </p:nvSpPr>
          <p:spPr>
            <a:xfrm>
              <a:off x="6553440" y="2209680"/>
              <a:ext cx="977760" cy="484200"/>
            </a:xfrm>
            <a:prstGeom prst="rightArrow">
              <a:avLst>
                <a:gd name="adj1" fmla="val 50000"/>
                <a:gd name="adj2" fmla="val 50035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Group 21"/>
          <p:cNvGrpSpPr/>
          <p:nvPr/>
        </p:nvGrpSpPr>
        <p:grpSpPr>
          <a:xfrm>
            <a:off x="838080" y="4038480"/>
            <a:ext cx="6693120" cy="1203840"/>
            <a:chOff x="838080" y="4038480"/>
            <a:chExt cx="6693120" cy="1203840"/>
          </a:xfrm>
        </p:grpSpPr>
        <p:sp>
          <p:nvSpPr>
            <p:cNvPr id="344" name="Right Arrow 11"/>
            <p:cNvSpPr/>
            <p:nvPr/>
          </p:nvSpPr>
          <p:spPr>
            <a:xfrm>
              <a:off x="838080" y="4038480"/>
              <a:ext cx="977760" cy="484200"/>
            </a:xfrm>
            <a:prstGeom prst="rightArrow">
              <a:avLst>
                <a:gd name="adj1" fmla="val 50000"/>
                <a:gd name="adj2" fmla="val 50006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Down Arrow 12"/>
            <p:cNvSpPr/>
            <p:nvPr/>
          </p:nvSpPr>
          <p:spPr>
            <a:xfrm rot="18796800">
              <a:off x="2063520" y="4241160"/>
              <a:ext cx="485640" cy="977760"/>
            </a:xfrm>
            <a:prstGeom prst="downArrow">
              <a:avLst>
                <a:gd name="adj1" fmla="val 50000"/>
                <a:gd name="adj2" fmla="val 50026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Down Arrow 13"/>
            <p:cNvSpPr/>
            <p:nvPr/>
          </p:nvSpPr>
          <p:spPr>
            <a:xfrm rot="12730800">
              <a:off x="2966400" y="4167720"/>
              <a:ext cx="484200" cy="978120"/>
            </a:xfrm>
            <a:prstGeom prst="downArrow">
              <a:avLst>
                <a:gd name="adj1" fmla="val 50000"/>
                <a:gd name="adj2" fmla="val 4999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ight Arrow 14"/>
            <p:cNvSpPr/>
            <p:nvPr/>
          </p:nvSpPr>
          <p:spPr>
            <a:xfrm>
              <a:off x="3657600" y="4114440"/>
              <a:ext cx="977760" cy="484200"/>
            </a:xfrm>
            <a:prstGeom prst="rightArrow">
              <a:avLst>
                <a:gd name="adj1" fmla="val 50000"/>
                <a:gd name="adj2" fmla="val 50006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Down Arrow 15"/>
            <p:cNvSpPr/>
            <p:nvPr/>
          </p:nvSpPr>
          <p:spPr>
            <a:xfrm rot="18826800">
              <a:off x="4926960" y="4139280"/>
              <a:ext cx="484200" cy="977760"/>
            </a:xfrm>
            <a:prstGeom prst="downArrow">
              <a:avLst>
                <a:gd name="adj1" fmla="val 50000"/>
                <a:gd name="adj2" fmla="val 50006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Down Arrow 18"/>
            <p:cNvSpPr/>
            <p:nvPr/>
          </p:nvSpPr>
          <p:spPr>
            <a:xfrm rot="13128600">
              <a:off x="5814720" y="4158360"/>
              <a:ext cx="484200" cy="978120"/>
            </a:xfrm>
            <a:prstGeom prst="downArrow">
              <a:avLst>
                <a:gd name="adj1" fmla="val 50000"/>
                <a:gd name="adj2" fmla="val 4999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ight Arrow 19"/>
            <p:cNvSpPr/>
            <p:nvPr/>
          </p:nvSpPr>
          <p:spPr>
            <a:xfrm>
              <a:off x="6553440" y="4114440"/>
              <a:ext cx="977760" cy="484200"/>
            </a:xfrm>
            <a:prstGeom prst="rightArrow">
              <a:avLst>
                <a:gd name="adj1" fmla="val 50000"/>
                <a:gd name="adj2" fmla="val 50006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TextBox 28"/>
          <p:cNvSpPr/>
          <p:nvPr/>
        </p:nvSpPr>
        <p:spPr>
          <a:xfrm>
            <a:off x="7620120" y="4191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AutoShap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52352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FMLA is not enough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Not an entitlemen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Not just a woman’s “problem”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Not just for junior facul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AutoShap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nstitutional versus individual perspectiv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sults at different institutional typ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isciplinary differen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Gender differen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Questions? contact Lisa Wolf-Wendel  lwolf@ku.edu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AutoShape 2" descr=""/>
          <p:cNvPicPr/>
          <p:nvPr/>
        </p:nvPicPr>
        <p:blipFill>
          <a:blip r:embed="rId1"/>
          <a:stretch/>
        </p:blipFill>
        <p:spPr>
          <a:xfrm>
            <a:off x="755640" y="530280"/>
            <a:ext cx="7937640" cy="1152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981080"/>
            <a:ext cx="822960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stablish why universities should care about work/family polic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cruitment – focus on Dual Career Couple Policies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omotion &amp; Retention – focus on needs of academics with childre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uture of work/family Polic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ontex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igher Education is in flu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cademics (future academics) lives are complica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itutions of Higher Education are not altruistic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AutoShap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o recruit, promote and retain best facult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o address concerns about representation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o raise morale and increase productivit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o create more equitable work pla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essure from external sour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Recruitment: The case for Dual Career Couple Hiring Policies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ypes of “help”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d hoc, decentralized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elocation assistanc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onsorti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hared position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reation of non-tenure track position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reation of tenure track position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When Dual Career Hiring Works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rendip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itial hire is really wan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Quality of second hir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t of second hire/needs of un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ulture and Receptivity of hiring departme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illingness/needs of second hir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vailability of resourc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Tenure, Promotion &amp; Retention (other work family policies)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6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In Academia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 work and family has been an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either or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 proposition (especially for women)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ould wait to have children…. 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ould opt not to pursue an academic career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ould opt for a less prestigious position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How do faculty manage work and family?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Academic motherhood study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Qualitative stud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terviews with 120 wom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Variety of institutional typ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ll with young children, all tenure track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Variety of field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terviewed early career (less than five years) and mid career (5-7 years later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eviewed institutional polici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AutoShap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44792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joy of professional and personal rol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cademic work is flexible, but unend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aving a child makes you effici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uts things into perspectiv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2T13:40:56Z</dcterms:created>
  <dc:creator>Lisa Wolf-Wendel</dc:creator>
  <dc:description/>
  <dc:language>en-US</dc:language>
  <cp:lastModifiedBy>jil336</cp:lastModifiedBy>
  <dcterms:modified xsi:type="dcterms:W3CDTF">2010-05-06T21:19:26Z</dcterms:modified>
  <cp:revision>41</cp:revision>
  <dc:subject/>
  <dc:title>Work and Family on the Tenure Track</dc:title>
</cp:coreProperties>
</file>