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6D5B-A9A8-4065-9B31-0F0FC908A3A5}"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move the slide</a:t>
            </a:r>
            <a:endParaRPr b="0" lang="en-US" sz="4000" spc="-1" strike="noStrike">
              <a:solidFill>
                <a:srgbClr val="646b86"/>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B70E-6E6A-40D4-880F-5914968770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F6A3-FD53-4B1D-8AAB-DCF1939DA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97C2-BA06-48EB-9DAF-3C330D14D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037C4-D22B-4D26-A195-0EAC42824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E1AC-6C35-4012-BB6B-7D90E47C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93A3-D518-4C1A-9BF4-389C9CDCB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67533-5565-4520-B88A-8162EB848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79B0F-11AF-4061-85E0-271D5433A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97446-F713-4F5E-9F08-7C388EBAD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9DA55-5272-47AC-A6B1-D7803EB18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F2F1D-6FCE-4A17-9DE1-3872C5263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A0126-52C1-4F11-AE57-659FD39EB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C7B79-F621-41CA-BD60-4A401131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EF0A2-5A0F-4D04-93DB-D418A4AF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2528D-6D20-4278-B275-6CCD9BE2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074F1-D000-4F73-9C11-650C0F1A1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22341-7A3D-4604-9ECA-365B73117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AB1F6-C219-49CC-A1B4-19650CA0B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D6B93-0CE7-4C32-986A-C7DAFA956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6C131-325E-4494-B10B-53C20FAB2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709932-9BF7-4091-B128-6FC18AACB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B857E-309A-4061-8C79-EA73427B3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73BA1-068A-42B8-8652-10F24F09A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9EA69-2877-4740-A37F-9AB156A4C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0724F-1690-469F-8CC9-86DB6CCCB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A029F-D17C-4BDF-A2C0-55B1FC479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91E02-A316-4295-8E17-7BD335A8E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7102F-13F8-44BA-B706-049E20F3B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032AC-5B42-49D0-A8BB-7CE8B5F52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77385-37FF-49DE-AA24-3A5D50F33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FDD65-0D97-4644-B760-88E7754F5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C431C7-A475-4075-A9A3-DDE35F6324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5ACD7D-08F3-4AC9-8DA4-200E88E1EB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EDC60D-0F96-4255-8BA8-B38D34A822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2D406-9FAF-4B5C-A48D-F21C02852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248E2-B10A-4FF1-9543-53E9EA920E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55C02-3DF3-4351-B4F4-099B680B4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FF8BB-C6AC-46B1-93F9-94B8A79CC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5F7C7-8115-495E-8A44-55339D254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ECB65-D869-4DC8-BDF0-405B03005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7637A-F281-4BD0-BCC1-035FA1D2C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9C6C7-3F62-4336-ACEC-B5BDB121D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29312-8A1B-4A14-8DCA-421AC1FB6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16407-2B2D-4196-AC8A-C6B0BB1C40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B1E80-B1B3-41DF-8BD7-8066E111FD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C7F5B-AA21-4C54-A528-DA8E571320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CF3ABA-D043-4264-972A-F4AECB70E1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6FE6-D285-4D44-BE38-AEBB23062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28941F-E889-4196-AD21-9220BAC6F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7EDF5-0B59-495A-A7B5-28483B4F8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62FE2-B1B3-4387-9DE8-F8BAAA927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B07FC-B9BB-4B31-A94A-A762BC9B63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BDC66-454B-4479-99A0-B433589C4B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44A21-FCC2-4662-BF44-02C4A7286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06195-714D-4AB0-A6D1-515136B4C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34983-A337-4C4F-8921-1A4048EE0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DEF57-0A09-4C14-B514-B496ED210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51D4CF-DCCA-4A41-8147-9A1A6E7D01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507EA-0E37-4FAF-8542-DFBEDAF0C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23C41D-D9D4-461D-824A-7B30D5F6C9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20EE-F79E-4DCD-9E72-0F64977B8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F516A-AD59-44D1-B759-E2C495476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30A8-7B87-4BF2-ABDD-8BEA788B0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DC7A-2FDB-4215-B691-DD4E5AF63BCD}" type="datetime">
              <a:rPr b="0" lang="en-US" sz="1400" spc="-1" strike="noStrike">
                <a:solidFill>
                  <a:srgbClr val="646b86"/>
                </a:solidFill>
                <a:latin typeface="Perpetua"/>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E1F5-F8EC-4CAD-81F2-C34A5DC625C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5b7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8fb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C61A-5633-484F-AC47-3430FC4141C4}" type="datetime">
              <a:rPr b="0" lang="en-US" sz="1400" spc="-1" strike="noStrike">
                <a:solidFill>
                  <a:srgbClr val="646b86"/>
                </a:solidFill>
                <a:latin typeface="Perpetua"/>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5575-2D27-45D2-A5EE-8A16FDC5086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1634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5b7b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8fb08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A78B-B8AD-4117-8BDD-610F44DA0682}" type="datetime">
              <a:rPr b="0" lang="en-US" sz="1400" spc="-1" strike="noStrike">
                <a:solidFill>
                  <a:srgbClr val="646b86"/>
                </a:solidFill>
                <a:latin typeface="Perpetua"/>
              </a:rPr>
              <a:t>07/30/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C5C5-7362-46C9-95AF-71D13DA348D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C0DF-F7B1-4E2A-AC1E-C292716C0E78}" type="datetime">
              <a:rPr b="0" lang="en-US" sz="1400" spc="-1" strike="noStrike">
                <a:solidFill>
                  <a:srgbClr val="646b86"/>
                </a:solidFill>
                <a:latin typeface="Perpetua"/>
              </a:rPr>
              <a:t>07/30/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9AD3-0103-426A-AA21-D4FDDBD043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16349"/>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5b7b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8fb08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280B-7249-4B7B-A51D-124D7E99ADEC}" type="datetime">
              <a:rPr b="0" lang="en-US" sz="1400" spc="-1" strike="noStrike">
                <a:solidFill>
                  <a:srgbClr val="646b86"/>
                </a:solidFill>
                <a:latin typeface="Perpetua"/>
              </a:rPr>
              <a:t>07/30/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3E0C-EF9B-4157-820D-F3A5B032EAA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504960"/>
            <a:ext cx="6400800" cy="144756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Perpetua"/>
              </a:rPr>
              <a:t>Ann Higginbotham</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Perpetua"/>
              </a:rPr>
              <a:t>AAUP/Committee on Women in the Academic Profession</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llaboration and Dual Career Accommodation:</a:t>
            </a:r>
            <a:br>
              <a:rPr sz="3200"/>
            </a:br>
            <a:r>
              <a:rPr b="0" lang="en-US" sz="3200" spc="-1" strike="noStrike">
                <a:solidFill>
                  <a:srgbClr val="ffffff"/>
                </a:solidFill>
                <a:latin typeface="Franklin Gothic Book"/>
              </a:rPr>
              <a:t>Some Macro and Micro Perspectives</a:t>
            </a:r>
            <a:endParaRPr b="0" lang="en-US" sz="3200" spc="-1" strike="noStrike">
              <a:solidFill>
                <a:srgbClr val="646b86"/>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432b"/>
                </a:solidFill>
                <a:latin typeface="Franklin Gothic Book"/>
              </a:rPr>
              <a:t>AAUP Committee on Women in the Academic Profession</a:t>
            </a:r>
            <a:endParaRPr b="0" lang="en-US" sz="3600" spc="-1" strike="noStrike">
              <a:solidFill>
                <a:srgbClr val="646b86"/>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01: Statement on Family Responsibilities and Academic Work</a:t>
            </a:r>
            <a:br>
              <a:rPr sz="2600"/>
            </a:br>
            <a:r>
              <a:rPr b="0" lang="en-US" sz="2600" spc="-1" strike="noStrike">
                <a:solidFill>
                  <a:srgbClr val="000000"/>
                </a:solidFill>
                <a:latin typeface="Perpetua"/>
              </a:rPr>
              <a:t>Recommended flexible family friendly policies including paid maternity and parental leave, subsidized child care, and stop-the-tenure-clock policies</a:t>
            </a:r>
            <a:endParaRPr b="0" lang="en-US" sz="2600" spc="-1" strike="noStrike">
              <a:solidFill>
                <a:srgbClr val="000000"/>
              </a:solidFill>
              <a:latin typeface="Perpetua"/>
            </a:endParaRPr>
          </a:p>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06: Gender Equity Index:</a:t>
            </a:r>
            <a:br>
              <a:rPr sz="2600"/>
            </a:br>
            <a:r>
              <a:rPr b="0" lang="en-US" sz="2600" spc="-1" strike="noStrike">
                <a:solidFill>
                  <a:srgbClr val="000000"/>
                </a:solidFill>
                <a:latin typeface="Perpetua"/>
              </a:rPr>
              <a:t>Explored comparative employment, promotion, and pay levels at two-year and four-year institutions</a:t>
            </a:r>
            <a:endParaRPr b="0" lang="en-US" sz="2600" spc="-1" strike="noStrike">
              <a:solidFill>
                <a:srgbClr val="000000"/>
              </a:solidFill>
              <a:latin typeface="Perpetua"/>
            </a:endParaRPr>
          </a:p>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10: Recommendations on Dual Career Accommodation (forthcoming)</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The </a:t>
            </a:r>
            <a:r>
              <a:rPr b="0" lang="en-US" sz="4000" spc="-1" strike="noStrike">
                <a:solidFill>
                  <a:srgbClr val="a9432b"/>
                </a:solidFill>
                <a:latin typeface="Franklin Gothic Book"/>
              </a:rPr>
              <a:t>BIG</a:t>
            </a:r>
            <a:r>
              <a:rPr b="0" lang="en-US" sz="4000" spc="-1" strike="noStrike">
                <a:solidFill>
                  <a:srgbClr val="646b86"/>
                </a:solidFill>
                <a:latin typeface="Franklin Gothic Book"/>
              </a:rPr>
              <a:t> Picture</a:t>
            </a:r>
            <a:endParaRPr b="0" lang="en-US" sz="4000" spc="-1" strike="noStrike">
              <a:solidFill>
                <a:srgbClr val="646b86"/>
              </a:solidFill>
              <a:latin typeface="Franklin Gothic Book"/>
            </a:endParaRPr>
          </a:p>
        </p:txBody>
      </p:sp>
      <p:sp>
        <p:nvSpPr>
          <p:cNvPr id="240"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artner accommodation is clearly an important issue for institutions and for individual job seeker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1" name=""/>
          <p:cNvSpPr txBox="1"/>
          <p:nvPr/>
        </p:nvSpPr>
        <p:spPr>
          <a:xfrm>
            <a:off x="4933800" y="1447920"/>
            <a:ext cx="3749760" cy="4572000"/>
          </a:xfrm>
          <a:prstGeom prst="rect">
            <a:avLst/>
          </a:prstGeom>
          <a:noFill/>
          <a:ln w="9360">
            <a:solidFill>
              <a:srgbClr val="c00000"/>
            </a:solidFill>
            <a:miter/>
          </a:ln>
        </p:spPr>
        <p:txBody>
          <a:bodyPr anchor="t">
            <a:normAutofit fontScale="92000"/>
          </a:bodyPr>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Addressing dual-career needs will contribute to an overall family-friendly work environment and improve University recruitment, productivity, and retention.”</a:t>
            </a:r>
            <a:endParaRPr b="0" lang="en-US" sz="26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	</a:t>
            </a:r>
            <a:r>
              <a:rPr b="0" lang="en-US" sz="1600" spc="-1" strike="noStrike">
                <a:solidFill>
                  <a:srgbClr val="000000"/>
                </a:solidFill>
                <a:latin typeface="Perpetua"/>
              </a:rPr>
              <a:t>University of Rhode Island, “Rationale for a Dual Career Hiring Program”</a:t>
            </a: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Book"/>
              </a:rPr>
              <a:t>Committee W’s Overall Recommendations</a:t>
            </a:r>
            <a:endParaRPr b="0" lang="en-US" sz="3600" spc="-1" strike="noStrike">
              <a:solidFill>
                <a:srgbClr val="646b86"/>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anchor="t">
            <a:normAutofit fontScale="85000"/>
          </a:bodyPr>
          <a:p>
            <a:pPr marL="231840" indent="-23184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titutions that provide any form of partner accommodation should have a clearly worded policy that covers all full-time appointments rather than rely upon ad hoc arrangements available only on a select basis.  </a:t>
            </a:r>
            <a:endParaRPr b="0" lang="en-US" sz="2600" spc="-1" strike="noStrike">
              <a:solidFill>
                <a:srgbClr val="000000"/>
              </a:solidFill>
              <a:latin typeface="Perpetua"/>
            </a:endParaRPr>
          </a:p>
          <a:p>
            <a:pPr marL="231840" indent="-23184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se recommendations call for policies that balance the needs of departments and institutions with the needs of faculty members.  Individual faculty appointments, above all, should be based on the candidate’s potential contribution to the position, the department, and the institution.  Sensitivity to work/life balance must also be tempered by attention to good governance and the protections of tenure.</a:t>
            </a:r>
            <a:endParaRPr b="0" lang="en-US" sz="2600" spc="-1" strike="noStrike">
              <a:solidFill>
                <a:srgbClr val="000000"/>
              </a:solidFill>
              <a:latin typeface="Perpetua"/>
            </a:endParaRPr>
          </a:p>
          <a:p>
            <a:pPr marL="231840" indent="-23184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Book"/>
              </a:rPr>
              <a:t>The Need for Alternatives to Dual Career Hiring</a:t>
            </a:r>
            <a:endParaRPr b="0" lang="en-US" sz="3600" spc="-1" strike="noStrike">
              <a:solidFill>
                <a:srgbClr val="646b86"/>
              </a:solidFill>
              <a:latin typeface="Franklin Gothic Book"/>
            </a:endParaRPr>
          </a:p>
        </p:txBody>
      </p:sp>
      <p:sp>
        <p:nvSpPr>
          <p:cNvPr id="245" name=""/>
          <p:cNvSpPr txBox="1"/>
          <p:nvPr/>
        </p:nvSpPr>
        <p:spPr>
          <a:xfrm>
            <a:off x="914400" y="1447920"/>
            <a:ext cx="3749760" cy="4572000"/>
          </a:xfrm>
          <a:prstGeom prst="rect">
            <a:avLst/>
          </a:prstGeom>
          <a:noFill/>
          <a:ln w="0">
            <a:noFill/>
          </a:ln>
        </p:spPr>
        <p:txBody>
          <a:bodyPr anchor="t">
            <a:normAutofit fontScale="87000"/>
          </a:bodyPr>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ile dual-career hires at the same institution may be the “gold standard,” they are impractical or impossible at many institutions</a:t>
            </a:r>
            <a:endParaRPr b="0" lang="en-US" sz="2600" spc="-1" strike="noStrike">
              <a:solidFill>
                <a:srgbClr val="000000"/>
              </a:solidFill>
              <a:latin typeface="Perpetua"/>
            </a:endParaRPr>
          </a:p>
          <a:p>
            <a:pPr marL="237240" indent="-237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n institutions with dual-career hiring policies cannot promise a partner hire in every case</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246" name=""/>
          <p:cNvSpPr txBox="1"/>
          <p:nvPr/>
        </p:nvSpPr>
        <p:spPr>
          <a:xfrm>
            <a:off x="4933800" y="1447920"/>
            <a:ext cx="3749760" cy="4572000"/>
          </a:xfrm>
          <a:prstGeom prst="rect">
            <a:avLst/>
          </a:prstGeom>
          <a:solidFill>
            <a:srgbClr val="dfe1e7"/>
          </a:solidFill>
          <a:ln w="0">
            <a:noFill/>
          </a:ln>
        </p:spPr>
        <p:txBody>
          <a:bodyPr anchor="t">
            <a:normAutofit fontScale="94000"/>
          </a:bodyPr>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Given limited resources, the lack of disciplinary fit in some cases, and the university’s mission and aspirations as a research university, it simply will not be possible to respond to the employment needs of all dual career couples.”</a:t>
            </a:r>
            <a:endParaRPr b="0" lang="en-US" sz="24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1600" spc="-1" strike="noStrike">
                <a:solidFill>
                  <a:srgbClr val="000000"/>
                </a:solidFill>
                <a:latin typeface="Perpetua"/>
              </a:rPr>
              <a:t>Virginia Tech, Faculty Dual Career Guidelines for Dept Chairs</a:t>
            </a: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Some Alternative Services</a:t>
            </a:r>
            <a:endParaRPr b="0" lang="en-US" sz="4000" spc="-1" strike="noStrike">
              <a:solidFill>
                <a:srgbClr val="646b86"/>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ERC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tner Assistance Offices which give assistance with resumes and job search strategie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tworking with business and community organization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sistance with graduate placement or research resource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sistance with temporary or bridging position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Some Models</a:t>
            </a:r>
            <a:endParaRPr b="0" lang="en-US" sz="4000" spc="-1" strike="noStrike">
              <a:solidFill>
                <a:srgbClr val="646b86"/>
              </a:solidFill>
              <a:latin typeface="Franklin Gothic Book"/>
            </a:endParaRPr>
          </a:p>
        </p:txBody>
      </p:sp>
      <p:sp>
        <p:nvSpPr>
          <p:cNvPr id="250" name=""/>
          <p:cNvSpPr txBox="1"/>
          <p:nvPr/>
        </p:nvSpPr>
        <p:spPr>
          <a:xfrm>
            <a:off x="914400" y="1447920"/>
            <a:ext cx="3749760" cy="4572000"/>
          </a:xfrm>
          <a:prstGeom prst="rect">
            <a:avLst/>
          </a:prstGeom>
          <a:noFill/>
          <a:ln w="9360">
            <a:solidFill>
              <a:srgbClr val="c00000"/>
            </a:solidFill>
            <a:miter/>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Perpetua"/>
              </a:rPr>
              <a:t>UC, Davis</a:t>
            </a: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Perpetua"/>
              </a:rPr>
              <a:t>Partner Opportunities </a:t>
            </a:r>
            <a:br>
              <a:rPr sz="2400"/>
            </a:br>
            <a:r>
              <a:rPr b="0" lang="en-US" sz="2400" spc="-1" strike="noStrike">
                <a:solidFill>
                  <a:srgbClr val="a9432b"/>
                </a:solidFill>
                <a:latin typeface="Perpetua"/>
              </a:rPr>
              <a:t>Program</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vice on conducing an employment search</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ormation on child care, housing, schools and other community issues</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ordination of bridging positions</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1" name=""/>
          <p:cNvSpPr txBox="1"/>
          <p:nvPr/>
        </p:nvSpPr>
        <p:spPr>
          <a:xfrm>
            <a:off x="4933800" y="1447920"/>
            <a:ext cx="3749760" cy="4572000"/>
          </a:xfrm>
          <a:prstGeom prst="rect">
            <a:avLst/>
          </a:prstGeom>
          <a:noFill/>
          <a:ln w="9360">
            <a:solidFill>
              <a:srgbClr val="c00000"/>
            </a:solidFill>
            <a:miter/>
          </a:ln>
        </p:spPr>
        <p:txBody>
          <a:bodyPr anchor="t">
            <a:normAutofit fontScale="95000"/>
          </a:bodyPr>
          <a:p>
            <a:pPr marL="259200" indent="-259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Perpetua"/>
              </a:rPr>
              <a:t>Penn State </a:t>
            </a:r>
            <a:br>
              <a:rPr sz="2400"/>
            </a:br>
            <a:r>
              <a:rPr b="0" lang="en-US" sz="2400" spc="-1" strike="noStrike">
                <a:solidFill>
                  <a:srgbClr val="a9432b"/>
                </a:solidFill>
                <a:latin typeface="Perpetua"/>
              </a:rPr>
              <a:t>Dual Career Employment Assistance Program</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rientation to community</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tworking</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ume development</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rks with Provost’s Office to explore opportunities for academic position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020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The Institutional Perspective</a:t>
            </a:r>
            <a:endParaRPr b="0" lang="en-US" sz="4000" spc="-1" strike="noStrike">
              <a:solidFill>
                <a:srgbClr val="646b86"/>
              </a:solidFill>
              <a:latin typeface="Franklin Gothic Book"/>
            </a:endParaRPr>
          </a:p>
        </p:txBody>
      </p:sp>
      <p:sp>
        <p:nvSpPr>
          <p:cNvPr id="253" name=""/>
          <p:cNvSpPr txBox="1"/>
          <p:nvPr/>
        </p:nvSpPr>
        <p:spPr>
          <a:xfrm>
            <a:off x="914400" y="1447920"/>
            <a:ext cx="374976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Perpetua"/>
              </a:rPr>
              <a:t>Eastern Connecticut State Universit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mall, state liberal arts universit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dual career assistance program</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ufficient HR staff to provide individual counseling</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possibility of dual career hires</a:t>
            </a:r>
            <a:endParaRPr b="0" lang="en-US" sz="2600" spc="-1" strike="noStrike">
              <a:solidFill>
                <a:srgbClr val="000000"/>
              </a:solidFill>
              <a:latin typeface="Perpetua"/>
            </a:endParaRPr>
          </a:p>
        </p:txBody>
      </p:sp>
      <p:pic>
        <p:nvPicPr>
          <p:cNvPr id="254" name="Content Placeholder 4" descr="Eastern 2.jpg"/>
          <p:cNvPicPr/>
          <p:nvPr/>
        </p:nvPicPr>
        <p:blipFill>
          <a:blip r:embed="rId1"/>
          <a:stretch/>
        </p:blipFill>
        <p:spPr>
          <a:xfrm>
            <a:off x="4933800" y="2274840"/>
            <a:ext cx="3749760" cy="29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The Individual Perspective</a:t>
            </a:r>
            <a:endParaRPr b="0" lang="en-US" sz="4000" spc="-1" strike="noStrike">
              <a:solidFill>
                <a:srgbClr val="646b86"/>
              </a:solidFill>
              <a:latin typeface="Franklin Gothic Book"/>
            </a:endParaRPr>
          </a:p>
        </p:txBody>
      </p:sp>
      <p:sp>
        <p:nvSpPr>
          <p:cNvPr id="256" name=""/>
          <p:cNvSpPr txBox="1"/>
          <p:nvPr/>
        </p:nvSpPr>
        <p:spPr>
          <a:xfrm>
            <a:off x="914400" y="1447920"/>
            <a:ext cx="3749760" cy="4572000"/>
          </a:xfrm>
          <a:prstGeom prst="rect">
            <a:avLst/>
          </a:prstGeom>
          <a:noFill/>
          <a:ln w="0">
            <a:noFill/>
          </a:ln>
        </p:spPr>
        <p:txBody>
          <a:bodyPr anchor="t">
            <a:normAutofit fontScale="99000"/>
          </a:bodyPr>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search shows that faculty are happier and more productive when their family responsibilities are recognized and both partners are able to achieve their career aspirations</a:t>
            </a:r>
            <a:endParaRPr b="0" lang="en-US" sz="2600" spc="-1" strike="noStrike">
              <a:solidFill>
                <a:srgbClr val="000000"/>
              </a:solidFill>
              <a:latin typeface="Perpetua"/>
            </a:endParaRPr>
          </a:p>
        </p:txBody>
      </p:sp>
      <p:pic>
        <p:nvPicPr>
          <p:cNvPr id="257" name="Content Placeholder 4" descr="E&amp;A 1.JPG"/>
          <p:cNvPicPr/>
          <p:nvPr/>
        </p:nvPicPr>
        <p:blipFill>
          <a:blip r:embed="rId1"/>
          <a:stretch/>
        </p:blipFill>
        <p:spPr>
          <a:xfrm>
            <a:off x="5708520" y="2378160"/>
            <a:ext cx="220032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4:32:22Z</dcterms:created>
  <dc:creator>higginbotham</dc:creator>
  <dc:description/>
  <dc:language>en-US</dc:language>
  <cp:lastModifiedBy>jil336</cp:lastModifiedBy>
  <dcterms:modified xsi:type="dcterms:W3CDTF">2010-05-24T20:15:52Z</dcterms:modified>
  <cp:revision>30</cp:revision>
  <dc:subject/>
  <dc:title>Institutional Collaboration: Some Macro and Micro Perspectives</dc:title>
</cp:coreProperties>
</file>